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230-480C-4D80-BDFB-14A8255A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C2AC-200C-4392-8D25-B8D13882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22B-9FF1-42F8-99D6-6A5FF1EC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BB6-E252-49CA-A70D-891B5281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3F991-FDEA-4A6A-8ECE-D17C0AF4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BDB8E-592C-4BAB-9FCA-77F2B928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D0822-5AAF-4EA3-86EA-41643322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56401-D457-4487-B452-6270C3CC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85AC7-916E-4137-970B-741B653E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902E5-C6D0-4953-98F6-CA2DB0D8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FE014-271F-483F-9DAD-26F3DDCB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4C6-DEA0-45B9-97E7-7E80BA49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9E0F8-7A2D-445B-B17F-2EE3F786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26865-3FAF-49DC-9EAB-55B60E63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01FB1-4302-43A5-B394-58E21270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60A63-96A3-442F-BCF9-40854358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88BC4-016A-4258-A5D4-E4356E47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531-F8B9-40B9-B111-07A22360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608-84FE-4533-ABE7-922EF728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0A1-C903-44B6-BDF8-7CDBEA89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1F5-9151-4432-82DD-54025C61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974-CE4D-4C43-8C0E-67107655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D94-DBE8-47E3-AACD-AB66EABE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915-C071-4406-B673-52F5E43B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006C-8E38-4874-83B0-0E512736F70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8CFB-B05D-4643-8D0E-C8720C305BB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1143000"/>
            <a:ext cx="579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Lesson  Tw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Breakfast or lunch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46280" y="141120"/>
            <a:ext cx="7559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k and answer the questions in pai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ay was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 you always get up late on Sunday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 you ever get up before luncht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en did you  get up last Sun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was it like outsi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d you think it was a nice 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happened just th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o was on the ph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ow had she arriv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she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you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as she surprised to hear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d you have to repeat yoursel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she ask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28600"/>
            <a:ext cx="40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Retell the stor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98560" y="838080"/>
            <a:ext cx="725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ever---early---Su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ast Sunday---very 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ooked---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ark outside---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just then---telephone---Aunt Lu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rrived---train’---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ming---see---you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ut---still---breakfast’---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ery surpri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ear---’she said,’---one o’clock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28600"/>
            <a:ext cx="8610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Why was the writer’s aunt surpri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was Sunday. I never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get up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early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Arial"/>
              </a:rPr>
              <a:t>on Sunday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 I sometimes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stay in be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until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unchtime. Last Sunday I got up very late. I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look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d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out of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the window. It was dark outside. ‘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What a day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!’ I thought. ‘It’s raining again.’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Just the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 the telephone rang. It was my aunt Lucy. “I’ve just arrived by train,’ she said. ‘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I’m coming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to see you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ut I’m still having breakfast,’ I sa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hat are you doing?’ she as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’m having breakfast,’ I repe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Dear m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’ she said. ‘Do you always get up so late? It’s one o’clock!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80720" y="698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80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指天气、时间、距离、身份等，本身无意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476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t’s September. It’s eight o’clock in the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ti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514600"/>
            <a:ext cx="56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It’s very cold today. (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326556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It is only two miles from my home to New Y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dist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343400"/>
            <a:ext cx="50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It  was my aunt Luc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7696080" y="5562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40968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until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 = till, up to the time that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089000"/>
            <a:ext cx="36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用作介词或连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89396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waited until 10 o’clock, but he still didn’t 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prepos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895480"/>
            <a:ext cx="55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Wait until I call. (conjunc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3640" y="3610080"/>
            <a:ext cx="69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He read/worked until midnight. (prep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419720"/>
            <a:ext cx="74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I was here until one o’clock. (prep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5638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10800" y="7440"/>
                </a:moveTo>
                <a:lnTo>
                  <a:pt x="13376" y="10051"/>
                </a:lnTo>
                <a:lnTo>
                  <a:pt x="13376" y="8310"/>
                </a:lnTo>
                <a:lnTo>
                  <a:pt x="15152" y="8310"/>
                </a:lnTo>
                <a:lnTo>
                  <a:pt x="15152" y="11827"/>
                </a:lnTo>
                <a:lnTo>
                  <a:pt x="17763" y="14403"/>
                </a:lnTo>
                <a:lnTo>
                  <a:pt x="16109" y="14403"/>
                </a:lnTo>
                <a:lnTo>
                  <a:pt x="16109" y="21592"/>
                </a:lnTo>
                <a:lnTo>
                  <a:pt x="5491" y="21592"/>
                </a:lnTo>
                <a:lnTo>
                  <a:pt x="5491" y="14403"/>
                </a:lnTo>
                <a:lnTo>
                  <a:pt x="3837" y="14403"/>
                </a:lnTo>
                <a:close/>
              </a:path>
              <a:path fill="darkenLess" w="21600" h="28806">
                <a:moveTo>
                  <a:pt x="13376" y="10051"/>
                </a:moveTo>
                <a:lnTo>
                  <a:pt x="13376" y="8310"/>
                </a:lnTo>
                <a:lnTo>
                  <a:pt x="15152" y="8310"/>
                </a:lnTo>
                <a:lnTo>
                  <a:pt x="15152" y="11827"/>
                </a:lnTo>
                <a:close/>
              </a:path>
              <a:path fill="darkenLess" w="21600" h="28806">
                <a:moveTo>
                  <a:pt x="9877" y="17902"/>
                </a:moveTo>
                <a:lnTo>
                  <a:pt x="11723" y="17902"/>
                </a:lnTo>
                <a:lnTo>
                  <a:pt x="11723" y="21592"/>
                </a:lnTo>
                <a:lnTo>
                  <a:pt x="16109" y="21592"/>
                </a:lnTo>
                <a:lnTo>
                  <a:pt x="16109" y="14403"/>
                </a:lnTo>
                <a:lnTo>
                  <a:pt x="5491" y="14403"/>
                </a:lnTo>
                <a:lnTo>
                  <a:pt x="5491" y="21592"/>
                </a:lnTo>
                <a:lnTo>
                  <a:pt x="9877" y="21592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743200" y="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介词与时间短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33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般说来，时间短语前要加介词， 但下列几种情况均属不加之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一、在组成的时间短语前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124080"/>
            <a:ext cx="13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二、在前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3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三、当跟时间名词构成时间短语时，它们前面也不加介词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 We are meeting next Tues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9051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He stayed with us las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 What are you going to do this eve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666880"/>
            <a:ext cx="50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. I didn’t feel very well tha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505320"/>
            <a:ext cx="66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 I’ll have to get up early tomorrow mor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7520" y="3889440"/>
            <a:ext cx="74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She arrived in London the day before yester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960" y="472752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You can come any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440" y="5108400"/>
            <a:ext cx="44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Some day we’ll meet agai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440" y="5489640"/>
            <a:ext cx="78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 Let’s have a dancing party one evening nex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5791320"/>
            <a:ext cx="380880" cy="5094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09400"/>
              <a:gd name="textAreaBottom" fmla="*/ 484920 h 509400"/>
            </a:gdLst>
            <a:ahLst/>
            <a:rect l="textAreaLeft" t="textAreaTop" r="textAreaRight" b="textAreaBottom"/>
            <a:pathLst>
              <a:path w="21600" h="28882">
                <a:moveTo>
                  <a:pt x="0" y="0"/>
                </a:moveTo>
                <a:lnTo>
                  <a:pt x="21600" y="0"/>
                </a:lnTo>
                <a:lnTo>
                  <a:pt x="21600" y="28882"/>
                </a:lnTo>
                <a:lnTo>
                  <a:pt x="0" y="28882"/>
                </a:lnTo>
                <a:close/>
              </a:path>
              <a:path fill="lightenLess" w="21600" h="288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82">
                <a:moveTo>
                  <a:pt x="21600" y="0"/>
                </a:moveTo>
                <a:lnTo>
                  <a:pt x="21600" y="28882"/>
                </a:lnTo>
                <a:lnTo>
                  <a:pt x="20200" y="27482"/>
                </a:lnTo>
                <a:lnTo>
                  <a:pt x="20200" y="1400"/>
                </a:lnTo>
                <a:close/>
              </a:path>
              <a:path fill="darkenLess" w="21600" h="28882">
                <a:moveTo>
                  <a:pt x="21600" y="28882"/>
                </a:moveTo>
                <a:lnTo>
                  <a:pt x="0" y="28882"/>
                </a:lnTo>
                <a:lnTo>
                  <a:pt x="1400" y="27482"/>
                </a:lnTo>
                <a:lnTo>
                  <a:pt x="20200" y="27482"/>
                </a:lnTo>
                <a:close/>
              </a:path>
              <a:path fill="lighten" w="21600" h="28882">
                <a:moveTo>
                  <a:pt x="0" y="288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82"/>
                </a:lnTo>
                <a:close/>
              </a:path>
              <a:path fill="darken" w="21600" h="28882">
                <a:moveTo>
                  <a:pt x="10800" y="7478"/>
                </a:moveTo>
                <a:lnTo>
                  <a:pt x="13376" y="10089"/>
                </a:lnTo>
                <a:lnTo>
                  <a:pt x="13376" y="8348"/>
                </a:lnTo>
                <a:lnTo>
                  <a:pt x="15152" y="8348"/>
                </a:lnTo>
                <a:lnTo>
                  <a:pt x="15152" y="11864"/>
                </a:lnTo>
                <a:lnTo>
                  <a:pt x="17763" y="14441"/>
                </a:lnTo>
                <a:lnTo>
                  <a:pt x="16109" y="14441"/>
                </a:lnTo>
                <a:lnTo>
                  <a:pt x="16109" y="21630"/>
                </a:lnTo>
                <a:lnTo>
                  <a:pt x="5491" y="21630"/>
                </a:lnTo>
                <a:lnTo>
                  <a:pt x="5491" y="14441"/>
                </a:lnTo>
                <a:lnTo>
                  <a:pt x="3837" y="14441"/>
                </a:lnTo>
                <a:close/>
              </a:path>
              <a:path fill="darkenLess" w="21600" h="28882">
                <a:moveTo>
                  <a:pt x="13376" y="10089"/>
                </a:moveTo>
                <a:lnTo>
                  <a:pt x="13376" y="8348"/>
                </a:lnTo>
                <a:lnTo>
                  <a:pt x="15152" y="8348"/>
                </a:lnTo>
                <a:lnTo>
                  <a:pt x="15152" y="11864"/>
                </a:lnTo>
                <a:close/>
              </a:path>
              <a:path fill="darkenLess" w="21600" h="28882">
                <a:moveTo>
                  <a:pt x="9877" y="17940"/>
                </a:moveTo>
                <a:lnTo>
                  <a:pt x="11723" y="17940"/>
                </a:lnTo>
                <a:lnTo>
                  <a:pt x="11723" y="21630"/>
                </a:lnTo>
                <a:lnTo>
                  <a:pt x="16109" y="21630"/>
                </a:lnTo>
                <a:lnTo>
                  <a:pt x="16109" y="14441"/>
                </a:lnTo>
                <a:lnTo>
                  <a:pt x="5491" y="14441"/>
                </a:lnTo>
                <a:lnTo>
                  <a:pt x="5491" y="21630"/>
                </a:lnTo>
                <a:lnTo>
                  <a:pt x="9877" y="2163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762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by bike to school. (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6280" y="1324080"/>
            <a:ext cx="78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ride a bike to school.=I go to school by b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49560" y="200988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昨天他坐飞机去了北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8098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今天上午我是坐轿车上班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5909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ent to Beijing by plane yester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124080"/>
            <a:ext cx="63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took a plane to Beijing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419720"/>
            <a:ext cx="61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went to work by car this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952880"/>
            <a:ext cx="58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took a car to work this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55627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12352" y="3837"/>
                </a:moveTo>
                <a:lnTo>
                  <a:pt x="14929" y="6448"/>
                </a:lnTo>
                <a:lnTo>
                  <a:pt x="14929" y="4707"/>
                </a:lnTo>
                <a:lnTo>
                  <a:pt x="16704" y="4707"/>
                </a:lnTo>
                <a:lnTo>
                  <a:pt x="16704" y="8224"/>
                </a:lnTo>
                <a:lnTo>
                  <a:pt x="19315" y="10800"/>
                </a:lnTo>
                <a:lnTo>
                  <a:pt x="17661" y="10800"/>
                </a:lnTo>
                <a:lnTo>
                  <a:pt x="17661" y="17989"/>
                </a:lnTo>
                <a:lnTo>
                  <a:pt x="7043" y="17989"/>
                </a:lnTo>
                <a:lnTo>
                  <a:pt x="7043" y="10800"/>
                </a:lnTo>
                <a:lnTo>
                  <a:pt x="5389" y="10800"/>
                </a:lnTo>
                <a:close/>
              </a:path>
              <a:path fill="darkenLess" w="24704" h="21600">
                <a:moveTo>
                  <a:pt x="14929" y="6448"/>
                </a:moveTo>
                <a:lnTo>
                  <a:pt x="14929" y="4707"/>
                </a:lnTo>
                <a:lnTo>
                  <a:pt x="16704" y="4707"/>
                </a:lnTo>
                <a:lnTo>
                  <a:pt x="16704" y="8224"/>
                </a:lnTo>
                <a:close/>
              </a:path>
              <a:path fill="darkenLess" w="24704" h="21600">
                <a:moveTo>
                  <a:pt x="11430" y="14299"/>
                </a:moveTo>
                <a:lnTo>
                  <a:pt x="13275" y="14299"/>
                </a:lnTo>
                <a:lnTo>
                  <a:pt x="13275" y="17989"/>
                </a:lnTo>
                <a:lnTo>
                  <a:pt x="17661" y="17989"/>
                </a:lnTo>
                <a:lnTo>
                  <a:pt x="17661" y="10800"/>
                </a:lnTo>
                <a:lnTo>
                  <a:pt x="7043" y="10800"/>
                </a:lnTo>
                <a:lnTo>
                  <a:pt x="7043" y="17989"/>
                </a:lnTo>
                <a:lnTo>
                  <a:pt x="11430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969560" y="146160"/>
            <a:ext cx="42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ummary wri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91440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writer always gets up late on Sundays. He got up late l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unday. Then his aunt Lucy telephoned. She had arrived by train. She was coming to see him. ‘I’m still having breakfast,’he said. His aunt was very surprised. It was one o’clo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                          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(45 word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09:27:27Z</dcterms:created>
  <dc:creator/>
  <dc:description/>
  <dc:language>en-US</dc:language>
  <cp:lastModifiedBy>tyz</cp:lastModifiedBy>
  <dcterms:modified xsi:type="dcterms:W3CDTF">2003-03-01T08:28:10Z</dcterms:modified>
  <cp:revision>15</cp:revision>
  <dc:subject/>
  <dc:title/>
</cp:coreProperties>
</file>